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0B94-01F6-4CCA-91D2-7F9AB32F64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1FD4-05D8-47BD-80E1-1817BB2F6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2571-972A-4731-925A-16EF4851E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F9CD-D4DD-4014-AE33-BB4D992CF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4FB7-5DAD-4369-A5F7-0723444AC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1B3F-ADA6-407A-B3F7-AC6B2570A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FB35-F37E-4385-A810-091867C40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DB13-6584-4BF5-BB68-002944FF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EDF-88B6-49FC-A7FC-47792471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6B63-FE7B-4B7B-B0C0-822A30D0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2B2B-2CDC-4C13-B5C4-829D1826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3935-9E7F-4A04-8BD1-052D2951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C2A0-D4C9-4E8C-B3BC-8F2F011C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7F08-8F81-4989-BC11-F6B05AF7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B108-7CEF-4561-88C4-26C3918E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9913-2CCB-4B51-A6B2-6A8EE77B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7110-9053-44CE-A910-9A10BC3F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9228-E99F-40C4-90FC-74C7EB6C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DA51-DBCD-47D1-A74D-BED06A11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59C3-F467-4F5F-B480-8E9D9098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C1B6-5CED-461B-8749-69929DD9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F5B0-F16D-44AC-938E-A6211D27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E252-35D0-4AB0-987A-3FAB7A59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617DC-6F41-4860-87EB-1004F6D1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B014-472A-471C-99F9-0B58895F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FD64A-082D-45E4-B0BF-F095876E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EA13F-7380-474D-A844-87E9EC0C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0B8BE-A541-4155-809C-B7D48682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BAD6A-E982-4E69-A0FE-96F4A253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87774-5087-4D90-9746-F43E9619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63127-F175-4B14-B490-369540A1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6D7E9-3DC0-4965-A63C-828A4A8E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65685-64D2-4820-BA47-D8BEF445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7F920-1133-4F6A-A1F5-6CEEA869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966BE-F494-4BBA-9AB1-3739F553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F9D5-A772-4CF2-8362-493D103A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B1185-E28B-4231-B6A4-A7F96D03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8609A-B8CB-483D-A63D-D9D1DAD8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FA536-17AD-4823-BF38-1974F2C4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B2050-1D84-44EE-8F58-E214AFE5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B925C-2208-430D-8515-815E525D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A071D-B285-4718-AABE-411DDC55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CC874-63D1-4341-96FE-07AD2522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29EDD-813E-40CF-B372-14232D12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F532E-4B69-4B6B-BB63-ECE75AA7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4F935-C726-4AAF-98E9-ACBDFA9E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8E9A-9481-4A35-B863-259FBB5D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F4595-C76A-4AD5-827F-1D79F3B9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97039-0001-4784-9F58-CCEBEA40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1A052-F7DF-450A-AA18-D5BC1505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9B78-EC03-4F7B-BCB8-D167CF7E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F069-75A1-4A89-890B-415F47DD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E483-A029-453B-92D0-17B2B8D8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5655-B052-4CA4-A57F-D4825962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3467-C070-47CC-A60C-2E766203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4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14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18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87" name="Straight Connector 19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Straight Connector 20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1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2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3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4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5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6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7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8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35B5-EBFC-434E-AE32-CE56AD000CEE}" type="slidenum">
              <a:rPr b="0" lang="en-US" sz="900" spc="-1" strike="noStrike">
                <a:solidFill>
                  <a:srgbClr val="90c226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Line 6"/>
          <p:cNvSpPr/>
          <p:nvPr/>
        </p:nvSpPr>
        <p:spPr>
          <a:xfrm>
            <a:off x="182520" y="1095480"/>
            <a:ext cx="8775720" cy="0"/>
          </a:xfrm>
          <a:prstGeom prst="line">
            <a:avLst/>
          </a:prstGeom>
          <a:ln w="76320">
            <a:solidFill>
              <a:srgbClr val="0ba7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8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9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840B-AB76-463C-B59D-794754CBDCB3}" type="slidenum">
              <a:rPr b="0" lang="en-US" sz="900" spc="-1" strike="noStrike">
                <a:solidFill>
                  <a:srgbClr val="90c226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9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Line 6"/>
          <p:cNvSpPr/>
          <p:nvPr/>
        </p:nvSpPr>
        <p:spPr>
          <a:xfrm>
            <a:off x="182520" y="1095480"/>
            <a:ext cx="8775720" cy="0"/>
          </a:xfrm>
          <a:prstGeom prst="line">
            <a:avLst/>
          </a:prstGeom>
          <a:ln w="76320">
            <a:solidFill>
              <a:srgbClr val="0ba7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8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19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93D9-AEB6-44CC-A5F6-08C86B729E69}" type="slidenum">
              <a:rPr b="0" lang="en-US" sz="900" spc="-1" strike="noStrike">
                <a:solidFill>
                  <a:srgbClr val="90c226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6283-0E3B-497D-9A61-0533A524803F}" type="slidenum">
              <a:rPr b="0" lang="en-US" sz="900" spc="-1" strike="noStrike">
                <a:solidFill>
                  <a:srgbClr val="90c226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6"/>
          <p:cNvSpPr/>
          <p:nvPr/>
        </p:nvSpPr>
        <p:spPr>
          <a:xfrm>
            <a:off x="182520" y="1095480"/>
            <a:ext cx="8775720" cy="0"/>
          </a:xfrm>
          <a:prstGeom prst="line">
            <a:avLst/>
          </a:prstGeom>
          <a:ln w="76320">
            <a:solidFill>
              <a:srgbClr val="0ba7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90c226"/>
                </a:solidFill>
                <a:latin typeface="Trebuchet MS"/>
              </a:rPr>
              <a:t>Specific Internal Defenses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The Acquired (or Adaptive) Immune Syste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bodi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609120" y="1392120"/>
            <a:ext cx="782316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Antibodie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 produced only by B cells and their offsprin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Y-shaped proteins composed of two pairs of peptide chains: one pair of identical large (heavy) chains and one pair of identical small (light) chain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oth heavy and light chains consist of a </a:t>
            </a:r>
            <a:r>
              <a:rPr b="1" lang="en-US" sz="1600" spc="-1" strike="noStrike">
                <a:solidFill>
                  <a:srgbClr val="404040"/>
                </a:solidFill>
                <a:latin typeface="Trebuchet MS"/>
              </a:rPr>
              <a:t>constant region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, which is similar in all antibodies of the same type, and a </a:t>
            </a:r>
            <a:r>
              <a:rPr b="1" lang="en-US" sz="1600" spc="-1" strike="noStrike">
                <a:solidFill>
                  <a:srgbClr val="404040"/>
                </a:solidFill>
                <a:latin typeface="Trebuchet MS"/>
              </a:rPr>
              <a:t>variable region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 that differs among individual antibodie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The light and heavy chains combine to form the two functional parts: the “arms” of the Y and the “stem” of the Y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The variable regions at the arm tips form sites that bind antigen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Each binding site has a particular size, shape, and electrical charge so that only certain molecules can fit in and bind to the antibody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The sites are so specific that each antibody can bind only a few, very similar, types of antigen molecule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2" descr="36_06Figure-U"/>
          <p:cNvPicPr/>
          <p:nvPr/>
        </p:nvPicPr>
        <p:blipFill>
          <a:blip r:embed="rId1"/>
          <a:srcRect l="0" t="0" r="0" b="3420"/>
          <a:stretch/>
        </p:blipFill>
        <p:spPr>
          <a:xfrm>
            <a:off x="1166760" y="458640"/>
            <a:ext cx="6810480" cy="573588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31"/>
          <p:cNvSpPr/>
          <p:nvPr/>
        </p:nvSpPr>
        <p:spPr>
          <a:xfrm rot="21017400">
            <a:off x="1792440" y="791640"/>
            <a:ext cx="70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31"/>
          <p:cNvSpPr/>
          <p:nvPr/>
        </p:nvSpPr>
        <p:spPr>
          <a:xfrm rot="2643600">
            <a:off x="5495400" y="1669680"/>
            <a:ext cx="7020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31"/>
          <p:cNvSpPr/>
          <p:nvPr/>
        </p:nvSpPr>
        <p:spPr>
          <a:xfrm>
            <a:off x="1204920" y="2279520"/>
            <a:ext cx="677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31"/>
          <p:cNvSpPr/>
          <p:nvPr/>
        </p:nvSpPr>
        <p:spPr>
          <a:xfrm>
            <a:off x="3414600" y="2443320"/>
            <a:ext cx="677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v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31"/>
          <p:cNvSpPr/>
          <p:nvPr/>
        </p:nvSpPr>
        <p:spPr>
          <a:xfrm>
            <a:off x="5443560" y="3639960"/>
            <a:ext cx="23382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 regions fo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gen binding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1"/>
          <p:cNvSpPr/>
          <p:nvPr/>
        </p:nvSpPr>
        <p:spPr>
          <a:xfrm>
            <a:off x="4199040" y="4884840"/>
            <a:ext cx="276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ant regions ar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 in all antibodi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given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10"/>
          <p:cNvSpPr/>
          <p:nvPr/>
        </p:nvSpPr>
        <p:spPr>
          <a:xfrm rot="20844000">
            <a:off x="1752120" y="1579320"/>
            <a:ext cx="131760" cy="1895400"/>
          </a:xfrm>
          <a:custGeom>
            <a:avLst/>
            <a:gdLst>
              <a:gd name="textAreaLeft" fmla="*/ 84240 w 131760"/>
              <a:gd name="textAreaRight" fmla="*/ 132120 w 131760"/>
              <a:gd name="textAreaTop" fmla="*/ 21240 h 1895400"/>
              <a:gd name="textAreaBottom" fmla="*/ 1874160 h 18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9"/>
                  <a:pt x="10800" y="778"/>
                </a:cubicBezTo>
                <a:lnTo>
                  <a:pt x="10800" y="10022"/>
                </a:lnTo>
                <a:cubicBezTo>
                  <a:pt x="10800" y="10411"/>
                  <a:pt x="5400" y="10800"/>
                  <a:pt x="0" y="10800"/>
                </a:cubicBezTo>
                <a:cubicBezTo>
                  <a:pt x="5400" y="10800"/>
                  <a:pt x="10800" y="11189"/>
                  <a:pt x="10800" y="11578"/>
                </a:cubicBezTo>
                <a:lnTo>
                  <a:pt x="10800" y="20822"/>
                </a:lnTo>
                <a:cubicBezTo>
                  <a:pt x="10800" y="2121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11"/>
          <p:cNvSpPr/>
          <p:nvPr/>
        </p:nvSpPr>
        <p:spPr>
          <a:xfrm rot="20844000">
            <a:off x="3112560" y="1257480"/>
            <a:ext cx="140040" cy="2044440"/>
          </a:xfrm>
          <a:custGeom>
            <a:avLst/>
            <a:gdLst>
              <a:gd name="textAreaLeft" fmla="*/ 0 w 140040"/>
              <a:gd name="textAreaRight" fmla="*/ 50400 w 140040"/>
              <a:gd name="textAreaTop" fmla="*/ 30960 h 2044440"/>
              <a:gd name="textAreaBottom" fmla="*/ 2013480 h 204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28"/>
                  <a:pt x="10800" y="1055"/>
                </a:cubicBezTo>
                <a:lnTo>
                  <a:pt x="10800" y="13716"/>
                </a:lnTo>
                <a:cubicBezTo>
                  <a:pt x="10800" y="14244"/>
                  <a:pt x="16200" y="14771"/>
                  <a:pt x="21600" y="14771"/>
                </a:cubicBezTo>
                <a:cubicBezTo>
                  <a:pt x="16200" y="14771"/>
                  <a:pt x="10800" y="15299"/>
                  <a:pt x="10800" y="15826"/>
                </a:cubicBezTo>
                <a:lnTo>
                  <a:pt x="10800" y="20545"/>
                </a:lnTo>
                <a:cubicBezTo>
                  <a:pt x="10800" y="21073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2"/>
          <p:cNvSpPr/>
          <p:nvPr/>
        </p:nvSpPr>
        <p:spPr>
          <a:xfrm rot="1031400">
            <a:off x="3335040" y="3206520"/>
            <a:ext cx="88920" cy="9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13"/>
          <p:cNvSpPr/>
          <p:nvPr/>
        </p:nvSpPr>
        <p:spPr>
          <a:xfrm rot="810000">
            <a:off x="3015720" y="3303360"/>
            <a:ext cx="76320" cy="2625480"/>
          </a:xfrm>
          <a:custGeom>
            <a:avLst/>
            <a:gdLst>
              <a:gd name="textAreaLeft" fmla="*/ 0 w 76320"/>
              <a:gd name="textAreaRight" fmla="*/ 53640 w 76320"/>
              <a:gd name="textAreaTop" fmla="*/ 51480 h 2625480"/>
              <a:gd name="textAreaBottom" fmla="*/ 2574000 h 262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24"/>
                  <a:pt x="21600" y="847"/>
                </a:cubicBezTo>
                <a:lnTo>
                  <a:pt x="21600" y="20753"/>
                </a:lnTo>
                <a:cubicBezTo>
                  <a:pt x="21600" y="21177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4"/>
          <p:cNvSpPr/>
          <p:nvPr/>
        </p:nvSpPr>
        <p:spPr>
          <a:xfrm rot="556800">
            <a:off x="3306240" y="3325320"/>
            <a:ext cx="7812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5"/>
          <p:cNvSpPr/>
          <p:nvPr/>
        </p:nvSpPr>
        <p:spPr>
          <a:xfrm>
            <a:off x="3384720" y="3174840"/>
            <a:ext cx="2520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6"/>
          <p:cNvSpPr/>
          <p:nvPr/>
        </p:nvSpPr>
        <p:spPr>
          <a:xfrm flipV="1">
            <a:off x="3378240" y="3330360"/>
            <a:ext cx="25200" cy="10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46160" y="20268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bodi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-130320" y="1036440"/>
            <a:ext cx="5137200" cy="50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tibodies serve two functions in the adaptive immune respon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55600" indent="-355320"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1.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ecognizing foreign antigens and triggering the response against invad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55600" indent="-355320"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Helping to destroy the invading cells or molecules that bear antigen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28" name="Picture 2" descr="36_07Figure-U"/>
          <p:cNvPicPr/>
          <p:nvPr/>
        </p:nvPicPr>
        <p:blipFill>
          <a:blip r:embed="rId1"/>
          <a:srcRect l="0" t="0" r="0" b="3750"/>
          <a:stretch/>
        </p:blipFill>
        <p:spPr>
          <a:xfrm>
            <a:off x="5094360" y="1949400"/>
            <a:ext cx="4060800" cy="488808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31"/>
          <p:cNvSpPr/>
          <p:nvPr/>
        </p:nvSpPr>
        <p:spPr>
          <a:xfrm>
            <a:off x="6494400" y="4297320"/>
            <a:ext cx="70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31"/>
          <p:cNvSpPr/>
          <p:nvPr/>
        </p:nvSpPr>
        <p:spPr>
          <a:xfrm>
            <a:off x="5160960" y="5719680"/>
            <a:ext cx="70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tibod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31"/>
          <p:cNvSpPr/>
          <p:nvPr/>
        </p:nvSpPr>
        <p:spPr>
          <a:xfrm>
            <a:off x="5961240" y="6556320"/>
            <a:ext cx="70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ti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31"/>
          <p:cNvSpPr/>
          <p:nvPr/>
        </p:nvSpPr>
        <p:spPr>
          <a:xfrm rot="18901800">
            <a:off x="7649640" y="5854680"/>
            <a:ext cx="1044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rob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8"/>
          <p:cNvSpPr/>
          <p:nvPr/>
        </p:nvSpPr>
        <p:spPr>
          <a:xfrm flipV="1">
            <a:off x="6943680" y="6617880"/>
            <a:ext cx="81288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9"/>
          <p:cNvSpPr/>
          <p:nvPr/>
        </p:nvSpPr>
        <p:spPr>
          <a:xfrm>
            <a:off x="5527800" y="5392800"/>
            <a:ext cx="301680" cy="36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10"/>
          <p:cNvSpPr/>
          <p:nvPr/>
        </p:nvSpPr>
        <p:spPr>
          <a:xfrm>
            <a:off x="6289560" y="5925960"/>
            <a:ext cx="122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29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daptive Immune System Attacks Invader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144000" y="1929960"/>
            <a:ext cx="877572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The invading microbe usually includes a handful of different antigens, each capable of binding only to a few antibodies or T-cell receptor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Your immune system contains millions of B and T cells, each bearing antibodies or T-cell receptors that differ from the antibodies or T-cell receptors of every other immune cell in your body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The benefit to having millions of unique immune cells is that almost any invader will provoke an adaptive immune respons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e drawback to having very small numbers of cells that can recognize any given invader is that a handful of cells isn’t enough to kill the invaders immediatel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It usually takes 1 to 2 weeks to mount a good immune response to the first exposure to an invading microbe, as the responding cells multiply and differentiate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e adaptive immune system simultaneously launches two types of attack against microbial invad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1. Humoral immunity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2. Cell-mediated immunity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umoral immunity – B Cell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609120" y="1282680"/>
            <a:ext cx="79470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oduced by antibodies dissolved in the bloo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ovided by B cells and the antibodies that they secrete into the bloodstrea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When a microbe enters the body, the antibodies on a few of these B cells can bind to antigens on the invader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Antigen-antibody binding causes these B cells to multiply rapidly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The daughter cells differentiate into two cell types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1. </a:t>
            </a:r>
            <a:r>
              <a:rPr b="1" i="1" lang="en-US" sz="1400" spc="-1" strike="noStrike">
                <a:solidFill>
                  <a:srgbClr val="404040"/>
                </a:solidFill>
                <a:latin typeface="Trebuchet MS"/>
              </a:rPr>
              <a:t>Memory B cells</a:t>
            </a: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, which do not release antibodies, but play an important role in future immunity to the invader that stimulated their production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2. </a:t>
            </a:r>
            <a:r>
              <a:rPr b="1" i="1" lang="en-US" sz="1400" spc="-1" strike="noStrike">
                <a:solidFill>
                  <a:srgbClr val="404040"/>
                </a:solidFill>
                <a:latin typeface="Trebuchet MS"/>
              </a:rPr>
              <a:t>Plasma cells</a:t>
            </a: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, which become enlarged and packed with rough endoplasmic reticulum, which synthesizes huge quantities of antibodie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ese antibodies are released into the bloodstream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2" descr="36_08Figure-U"/>
          <p:cNvPicPr/>
          <p:nvPr/>
        </p:nvPicPr>
        <p:blipFill>
          <a:blip r:embed="rId1"/>
          <a:srcRect l="0" t="0" r="0" b="2313"/>
          <a:stretch/>
        </p:blipFill>
        <p:spPr>
          <a:xfrm>
            <a:off x="1263600" y="101520"/>
            <a:ext cx="6615000" cy="6432480"/>
          </a:xfrm>
          <a:prstGeom prst="rect">
            <a:avLst/>
          </a:prstGeom>
          <a:ln w="0">
            <a:noFill/>
          </a:ln>
        </p:spPr>
      </p:pic>
      <p:sp>
        <p:nvSpPr>
          <p:cNvPr id="741" name="Text Box 31"/>
          <p:cNvSpPr/>
          <p:nvPr/>
        </p:nvSpPr>
        <p:spPr>
          <a:xfrm>
            <a:off x="4646520" y="157320"/>
            <a:ext cx="92088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31"/>
          <p:cNvSpPr/>
          <p:nvPr/>
        </p:nvSpPr>
        <p:spPr>
          <a:xfrm>
            <a:off x="6834240" y="174600"/>
            <a:ext cx="9205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6"/>
          <p:cNvSpPr/>
          <p:nvPr/>
        </p:nvSpPr>
        <p:spPr>
          <a:xfrm flipV="1">
            <a:off x="3805200" y="287280"/>
            <a:ext cx="79704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7"/>
          <p:cNvSpPr/>
          <p:nvPr/>
        </p:nvSpPr>
        <p:spPr>
          <a:xfrm flipH="1">
            <a:off x="4432320" y="287280"/>
            <a:ext cx="16992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8"/>
          <p:cNvSpPr/>
          <p:nvPr/>
        </p:nvSpPr>
        <p:spPr>
          <a:xfrm flipH="1">
            <a:off x="6560640" y="325440"/>
            <a:ext cx="22716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9"/>
          <p:cNvSpPr/>
          <p:nvPr/>
        </p:nvSpPr>
        <p:spPr>
          <a:xfrm flipH="1">
            <a:off x="6760800" y="320760"/>
            <a:ext cx="25560" cy="35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1"/>
          <p:cNvSpPr/>
          <p:nvPr/>
        </p:nvSpPr>
        <p:spPr>
          <a:xfrm>
            <a:off x="1422360" y="458640"/>
            <a:ext cx="11876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d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gens bi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antibodi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one B cel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dark b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31"/>
          <p:cNvSpPr/>
          <p:nvPr/>
        </p:nvSpPr>
        <p:spPr>
          <a:xfrm>
            <a:off x="1393920" y="1746360"/>
            <a:ext cx="1517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B cel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selected” by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gen multipli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pid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31"/>
          <p:cNvSpPr/>
          <p:nvPr/>
        </p:nvSpPr>
        <p:spPr>
          <a:xfrm>
            <a:off x="1420920" y="2819520"/>
            <a:ext cx="1517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large clon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geneticall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entical B cell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produ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31"/>
          <p:cNvSpPr/>
          <p:nvPr/>
        </p:nvSpPr>
        <p:spPr>
          <a:xfrm>
            <a:off x="1409760" y="4143240"/>
            <a:ext cx="99684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s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 cell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fferentiat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o plasm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lls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31"/>
          <p:cNvSpPr/>
          <p:nvPr/>
        </p:nvSpPr>
        <p:spPr>
          <a:xfrm>
            <a:off x="3227400" y="5437080"/>
            <a:ext cx="974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sma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5"/>
          <p:cNvSpPr/>
          <p:nvPr/>
        </p:nvSpPr>
        <p:spPr>
          <a:xfrm flipV="1">
            <a:off x="4221000" y="5342040"/>
            <a:ext cx="28764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6"/>
          <p:cNvSpPr/>
          <p:nvPr/>
        </p:nvSpPr>
        <p:spPr>
          <a:xfrm flipH="1" flipV="1">
            <a:off x="5574960" y="5430600"/>
            <a:ext cx="33012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31"/>
          <p:cNvSpPr/>
          <p:nvPr/>
        </p:nvSpPr>
        <p:spPr>
          <a:xfrm>
            <a:off x="3551400" y="6027840"/>
            <a:ext cx="974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plasmi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8"/>
          <p:cNvSpPr/>
          <p:nvPr/>
        </p:nvSpPr>
        <p:spPr>
          <a:xfrm flipV="1">
            <a:off x="4363920" y="5603760"/>
            <a:ext cx="25092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9"/>
          <p:cNvSpPr/>
          <p:nvPr/>
        </p:nvSpPr>
        <p:spPr>
          <a:xfrm>
            <a:off x="5067360" y="6167520"/>
            <a:ext cx="37296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20"/>
          <p:cNvSpPr/>
          <p:nvPr/>
        </p:nvSpPr>
        <p:spPr>
          <a:xfrm flipH="1">
            <a:off x="5037120" y="636588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31"/>
          <p:cNvSpPr/>
          <p:nvPr/>
        </p:nvSpPr>
        <p:spPr>
          <a:xfrm>
            <a:off x="1415880" y="5816520"/>
            <a:ext cx="1533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sma cell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ease antibodi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o the bl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31"/>
          <p:cNvSpPr/>
          <p:nvPr/>
        </p:nvSpPr>
        <p:spPr>
          <a:xfrm>
            <a:off x="5653080" y="5710320"/>
            <a:ext cx="9748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1"/>
          <p:cNvSpPr/>
          <p:nvPr/>
        </p:nvSpPr>
        <p:spPr>
          <a:xfrm>
            <a:off x="5492880" y="6262560"/>
            <a:ext cx="9745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umoral immunit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609480" y="1514520"/>
            <a:ext cx="809784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Antibodies in the blood combat invading molecules or microbes in three ways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34272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circulating antibodies may bind to a foreign molecule, virus, or cell and render it harmless by a process called neutralizatio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34272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bodies may coat the surface of invading molecules, viruses, or cells and make it easier for macrophages and phagocytes to destroy the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34272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en antibodies bind to antigens on the surface of a microbe, the antibodies interact with complement proteins that are always present in the blood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34272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2" descr="36_09FigureB-U"/>
          <p:cNvPicPr/>
          <p:nvPr/>
        </p:nvPicPr>
        <p:blipFill>
          <a:blip r:embed="rId1"/>
          <a:srcRect l="0" t="0" r="0" b="3382"/>
          <a:stretch/>
        </p:blipFill>
        <p:spPr>
          <a:xfrm>
            <a:off x="1413000" y="401760"/>
            <a:ext cx="6316560" cy="6167160"/>
          </a:xfrm>
          <a:prstGeom prst="rect">
            <a:avLst/>
          </a:prstGeom>
          <a:ln w="0">
            <a:noFill/>
          </a:ln>
        </p:spPr>
      </p:pic>
      <p:sp>
        <p:nvSpPr>
          <p:cNvPr id="764" name="Text Box 31"/>
          <p:cNvSpPr/>
          <p:nvPr/>
        </p:nvSpPr>
        <p:spPr>
          <a:xfrm>
            <a:off x="1468440" y="5656320"/>
            <a:ext cx="36432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ibodies bind to antigens on a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crobe and promote phagocytosis by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croph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31"/>
          <p:cNvSpPr/>
          <p:nvPr/>
        </p:nvSpPr>
        <p:spPr>
          <a:xfrm>
            <a:off x="2625840" y="3511440"/>
            <a:ext cx="11332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i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31"/>
          <p:cNvSpPr/>
          <p:nvPr/>
        </p:nvSpPr>
        <p:spPr>
          <a:xfrm>
            <a:off x="3362400" y="3830760"/>
            <a:ext cx="752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31"/>
          <p:cNvSpPr/>
          <p:nvPr/>
        </p:nvSpPr>
        <p:spPr>
          <a:xfrm rot="2134800">
            <a:off x="4063680" y="3350880"/>
            <a:ext cx="752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31"/>
          <p:cNvSpPr/>
          <p:nvPr/>
        </p:nvSpPr>
        <p:spPr>
          <a:xfrm rot="19729200">
            <a:off x="2335320" y="4575240"/>
            <a:ext cx="752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31"/>
          <p:cNvSpPr/>
          <p:nvPr/>
        </p:nvSpPr>
        <p:spPr>
          <a:xfrm>
            <a:off x="2765520" y="1041480"/>
            <a:ext cx="18320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croph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0"/>
          <p:cNvSpPr/>
          <p:nvPr/>
        </p:nvSpPr>
        <p:spPr>
          <a:xfrm flipV="1">
            <a:off x="3435480" y="3314880"/>
            <a:ext cx="30132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1"/>
          <p:cNvSpPr/>
          <p:nvPr/>
        </p:nvSpPr>
        <p:spPr>
          <a:xfrm>
            <a:off x="4327560" y="4019400"/>
            <a:ext cx="339840" cy="6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2"/>
          <p:cNvSpPr/>
          <p:nvPr/>
        </p:nvSpPr>
        <p:spPr>
          <a:xfrm>
            <a:off x="2149560" y="3409920"/>
            <a:ext cx="41580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"/>
          <p:cNvSpPr/>
          <p:nvPr/>
        </p:nvSpPr>
        <p:spPr>
          <a:xfrm flipV="1">
            <a:off x="3149640" y="4016160"/>
            <a:ext cx="14616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"/>
          <p:cNvSpPr/>
          <p:nvPr/>
        </p:nvSpPr>
        <p:spPr>
          <a:xfrm flipV="1">
            <a:off x="2565360" y="3801960"/>
            <a:ext cx="12708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09480" y="318600"/>
            <a:ext cx="7678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ell-mediated immunity T Cell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609120" y="1480680"/>
            <a:ext cx="83026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Cell-mediated immunity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is produced by 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cytotoxic T cells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, which attack virus-infected body cells and cells that have become cancerou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When a cell is infected by a virus, some pieces of viral proteins are brought to the surface of the infected cells and “displayed” on the outside of the plasma membran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When a cytotoxic T cell with an appropriate matching T-cell receptor binds to a viral antigen, the cytotoxic T cell passes through pores, killing the infected cell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f the infected cell is killed before the virus has finished multiplying, then no new viruses are produced, and the viral infection cannot spread to other cell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Cancer cells often display unusual proteins on their surfaces that cytotoxic T cells recognize as foreign, and can be killed by the same mechanism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2" descr="36_10Figure-U"/>
          <p:cNvPicPr/>
          <p:nvPr/>
        </p:nvPicPr>
        <p:blipFill>
          <a:blip r:embed="rId1"/>
          <a:srcRect l="0" t="0" r="0" b="3206"/>
          <a:stretch/>
        </p:blipFill>
        <p:spPr>
          <a:xfrm>
            <a:off x="1343160" y="654120"/>
            <a:ext cx="6456240" cy="5370480"/>
          </a:xfrm>
          <a:prstGeom prst="rect">
            <a:avLst/>
          </a:prstGeom>
          <a:ln w="0">
            <a:noFill/>
          </a:ln>
        </p:spPr>
      </p:pic>
      <p:sp>
        <p:nvSpPr>
          <p:cNvPr id="778" name="Text Box 31"/>
          <p:cNvSpPr/>
          <p:nvPr/>
        </p:nvSpPr>
        <p:spPr>
          <a:xfrm>
            <a:off x="1820880" y="3559320"/>
            <a:ext cx="227628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ytotoxic T ce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31"/>
          <p:cNvSpPr/>
          <p:nvPr/>
        </p:nvSpPr>
        <p:spPr>
          <a:xfrm>
            <a:off x="4719600" y="3857760"/>
            <a:ext cx="258120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ying cancer ce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-18000" y="499680"/>
            <a:ext cx="6347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daptive immune respon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91680" y="2160360"/>
            <a:ext cx="46148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63560" indent="-35712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Specific internal defenses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, the final line of defense, comprise the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adaptive immune response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, in which immune cells selectively destroy the specific invading toxin or microbe and then “remember” the invader, allowing a faster response if it reappears in the futur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659" name="Group 4"/>
          <p:cNvGrpSpPr/>
          <p:nvPr/>
        </p:nvGrpSpPr>
        <p:grpSpPr>
          <a:xfrm>
            <a:off x="5587920" y="237960"/>
            <a:ext cx="3127320" cy="6419880"/>
            <a:chOff x="5587920" y="237960"/>
            <a:chExt cx="3127320" cy="6419880"/>
          </a:xfrm>
        </p:grpSpPr>
        <p:pic>
          <p:nvPicPr>
            <p:cNvPr id="660" name="Picture 2" descr="36_01Figure-U"/>
            <p:cNvPicPr/>
            <p:nvPr/>
          </p:nvPicPr>
          <p:blipFill>
            <a:blip r:embed="rId1"/>
            <a:srcRect l="0" t="0" r="0" b="2510"/>
            <a:stretch/>
          </p:blipFill>
          <p:spPr>
            <a:xfrm>
              <a:off x="5587920" y="237960"/>
              <a:ext cx="3127320" cy="641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Text Box 31"/>
            <p:cNvSpPr/>
            <p:nvPr/>
          </p:nvSpPr>
          <p:spPr>
            <a:xfrm>
              <a:off x="6117840" y="2590560"/>
              <a:ext cx="1971720" cy="1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kin, mucous membra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31"/>
            <p:cNvSpPr/>
            <p:nvPr/>
          </p:nvSpPr>
          <p:spPr>
            <a:xfrm>
              <a:off x="6141960" y="2408040"/>
              <a:ext cx="197172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nspecific External Barri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31"/>
            <p:cNvSpPr/>
            <p:nvPr/>
          </p:nvSpPr>
          <p:spPr>
            <a:xfrm>
              <a:off x="6162480" y="4425840"/>
              <a:ext cx="1971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hagocytic and natural killer cells,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flammation, fe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31"/>
            <p:cNvSpPr/>
            <p:nvPr/>
          </p:nvSpPr>
          <p:spPr>
            <a:xfrm>
              <a:off x="6078240" y="4224240"/>
              <a:ext cx="197172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nate Immune Respons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31"/>
            <p:cNvSpPr/>
            <p:nvPr/>
          </p:nvSpPr>
          <p:spPr>
            <a:xfrm>
              <a:off x="6162480" y="3327120"/>
              <a:ext cx="1971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f these barriers are penetrated,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he body responds wi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31"/>
            <p:cNvSpPr/>
            <p:nvPr/>
          </p:nvSpPr>
          <p:spPr>
            <a:xfrm>
              <a:off x="6092640" y="5283000"/>
              <a:ext cx="1971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f the innate immune response is insufficient,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he body responds wi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31"/>
            <p:cNvSpPr/>
            <p:nvPr/>
          </p:nvSpPr>
          <p:spPr>
            <a:xfrm>
              <a:off x="5965560" y="6413400"/>
              <a:ext cx="2390760" cy="1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ell-mediated immunity, humoral immun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31"/>
            <p:cNvSpPr/>
            <p:nvPr/>
          </p:nvSpPr>
          <p:spPr>
            <a:xfrm>
              <a:off x="6059160" y="6205680"/>
              <a:ext cx="197172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daptive Immune Respons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398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elper T cells enhance both humoral and cell-mediated immune response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609120" y="2160360"/>
            <a:ext cx="76201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B cells and cytotoxic T cells require assistance from 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helper T cell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Helper T cells bear receptors that bind to antigens displayed on the surfaces of dendritic cells or macrophages that have engulfed and digested invading microbe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When its receptor binds an antigen, a helper T cell multiplies rapidly, and its daughter cells differentiate and release cytokinins that stimulate cell division and differentiation in both B cells and cytotoxic T cell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Picture 2" descr="36_11Figure-U"/>
          <p:cNvPicPr/>
          <p:nvPr/>
        </p:nvPicPr>
        <p:blipFill>
          <a:blip r:embed="rId1"/>
          <a:srcRect l="0" t="0" r="0" b="2313"/>
          <a:stretch/>
        </p:blipFill>
        <p:spPr>
          <a:xfrm>
            <a:off x="1555920" y="490680"/>
            <a:ext cx="6032160" cy="632448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0160" y="78840"/>
            <a:ext cx="858708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ummary of humoral and cell-mediated immune respon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31"/>
          <p:cNvSpPr/>
          <p:nvPr/>
        </p:nvSpPr>
        <p:spPr>
          <a:xfrm>
            <a:off x="1658880" y="811080"/>
            <a:ext cx="19083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rgets invaders outside cells (e.g.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iruses, bacteria, fungi, protists, and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xin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31"/>
          <p:cNvSpPr/>
          <p:nvPr/>
        </p:nvSpPr>
        <p:spPr>
          <a:xfrm>
            <a:off x="2077920" y="585720"/>
            <a:ext cx="106056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MORAL IMMUN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3703680" y="811080"/>
            <a:ext cx="1590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imulate both humoral and cell-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diated immunity by releasing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tok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4135320" y="585720"/>
            <a:ext cx="106056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LPER T CE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31"/>
          <p:cNvSpPr/>
          <p:nvPr/>
        </p:nvSpPr>
        <p:spPr>
          <a:xfrm>
            <a:off x="5649840" y="806400"/>
            <a:ext cx="1590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rgets defective body cells (e.g.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ected cells and cancer cells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pl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31"/>
          <p:cNvSpPr/>
          <p:nvPr/>
        </p:nvSpPr>
        <p:spPr>
          <a:xfrm>
            <a:off x="6010200" y="593640"/>
            <a:ext cx="106056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LL-MEDIATED IMMUN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31"/>
          <p:cNvSpPr/>
          <p:nvPr/>
        </p:nvSpPr>
        <p:spPr>
          <a:xfrm>
            <a:off x="6369120" y="2541600"/>
            <a:ext cx="6253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cted c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31"/>
          <p:cNvSpPr/>
          <p:nvPr/>
        </p:nvSpPr>
        <p:spPr>
          <a:xfrm>
            <a:off x="5419800" y="1789200"/>
            <a:ext cx="8460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iral antigens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sented on th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rfaces of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ndritic cells or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crophages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d infec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31"/>
          <p:cNvSpPr/>
          <p:nvPr/>
        </p:nvSpPr>
        <p:spPr>
          <a:xfrm>
            <a:off x="5132520" y="3228840"/>
            <a:ext cx="10238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cell receptors bind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 viral antige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31"/>
          <p:cNvSpPr/>
          <p:nvPr/>
        </p:nvSpPr>
        <p:spPr>
          <a:xfrm>
            <a:off x="6365880" y="3745080"/>
            <a:ext cx="600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ytotoxic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c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31"/>
          <p:cNvSpPr/>
          <p:nvPr/>
        </p:nvSpPr>
        <p:spPr>
          <a:xfrm>
            <a:off x="4272120" y="3841920"/>
            <a:ext cx="68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elper T c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31"/>
          <p:cNvSpPr/>
          <p:nvPr/>
        </p:nvSpPr>
        <p:spPr>
          <a:xfrm>
            <a:off x="4299120" y="2292480"/>
            <a:ext cx="684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ndritic cell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r macroph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31"/>
          <p:cNvSpPr/>
          <p:nvPr/>
        </p:nvSpPr>
        <p:spPr>
          <a:xfrm>
            <a:off x="4386240" y="1368360"/>
            <a:ext cx="28116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31"/>
          <p:cNvSpPr/>
          <p:nvPr/>
        </p:nvSpPr>
        <p:spPr>
          <a:xfrm>
            <a:off x="3594240" y="1471680"/>
            <a:ext cx="280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iral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31"/>
          <p:cNvSpPr/>
          <p:nvPr/>
        </p:nvSpPr>
        <p:spPr>
          <a:xfrm>
            <a:off x="3495600" y="3556080"/>
            <a:ext cx="281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ytoki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31"/>
          <p:cNvSpPr/>
          <p:nvPr/>
        </p:nvSpPr>
        <p:spPr>
          <a:xfrm>
            <a:off x="1760400" y="2602080"/>
            <a:ext cx="1158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-cell antibodies bind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 viral antigens and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imulate the B cells to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vide and different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31"/>
          <p:cNvSpPr/>
          <p:nvPr/>
        </p:nvSpPr>
        <p:spPr>
          <a:xfrm>
            <a:off x="1636560" y="3424320"/>
            <a:ext cx="281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tibo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21"/>
          <p:cNvSpPr/>
          <p:nvPr/>
        </p:nvSpPr>
        <p:spPr>
          <a:xfrm>
            <a:off x="1846440" y="3571920"/>
            <a:ext cx="1425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22"/>
          <p:cNvSpPr/>
          <p:nvPr/>
        </p:nvSpPr>
        <p:spPr>
          <a:xfrm flipV="1">
            <a:off x="3081240" y="3644640"/>
            <a:ext cx="3938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23"/>
          <p:cNvSpPr/>
          <p:nvPr/>
        </p:nvSpPr>
        <p:spPr>
          <a:xfrm flipH="1">
            <a:off x="3309480" y="3648240"/>
            <a:ext cx="165240" cy="16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31"/>
          <p:cNvSpPr/>
          <p:nvPr/>
        </p:nvSpPr>
        <p:spPr>
          <a:xfrm>
            <a:off x="2325600" y="3833640"/>
            <a:ext cx="28116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 c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25"/>
          <p:cNvSpPr/>
          <p:nvPr/>
        </p:nvSpPr>
        <p:spPr>
          <a:xfrm flipV="1">
            <a:off x="3855960" y="1547640"/>
            <a:ext cx="53352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26"/>
          <p:cNvSpPr/>
          <p:nvPr/>
        </p:nvSpPr>
        <p:spPr>
          <a:xfrm>
            <a:off x="3754440" y="1739880"/>
            <a:ext cx="2412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31"/>
          <p:cNvSpPr/>
          <p:nvPr/>
        </p:nvSpPr>
        <p:spPr>
          <a:xfrm>
            <a:off x="4014720" y="4454640"/>
            <a:ext cx="10238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tokines released by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lper T cells stimulate B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lls and cytotoxic T ce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31"/>
          <p:cNvSpPr/>
          <p:nvPr/>
        </p:nvSpPr>
        <p:spPr>
          <a:xfrm>
            <a:off x="1965240" y="5423040"/>
            <a:ext cx="281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asma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2916360" y="5316480"/>
            <a:ext cx="2808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mory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 c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31"/>
          <p:cNvSpPr/>
          <p:nvPr/>
        </p:nvSpPr>
        <p:spPr>
          <a:xfrm>
            <a:off x="4343400" y="5276880"/>
            <a:ext cx="4586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mory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elper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c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31"/>
          <p:cNvSpPr/>
          <p:nvPr/>
        </p:nvSpPr>
        <p:spPr>
          <a:xfrm>
            <a:off x="5854680" y="5275440"/>
            <a:ext cx="4586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mory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ytotoxic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c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1"/>
          <p:cNvSpPr/>
          <p:nvPr/>
        </p:nvSpPr>
        <p:spPr>
          <a:xfrm>
            <a:off x="6751800" y="5332320"/>
            <a:ext cx="59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ytotoxic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c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31"/>
          <p:cNvSpPr/>
          <p:nvPr/>
        </p:nvSpPr>
        <p:spPr>
          <a:xfrm>
            <a:off x="1763640" y="6237360"/>
            <a:ext cx="10238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lasma cells secret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tibodies into th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lood and interstitial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lu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31"/>
          <p:cNvSpPr/>
          <p:nvPr/>
        </p:nvSpPr>
        <p:spPr>
          <a:xfrm>
            <a:off x="4049640" y="6230880"/>
            <a:ext cx="10238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mory cells confer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uture immunity to this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cific virus but  no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 any other microb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31"/>
          <p:cNvSpPr/>
          <p:nvPr/>
        </p:nvSpPr>
        <p:spPr>
          <a:xfrm>
            <a:off x="5648400" y="6238800"/>
            <a:ext cx="10238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totoxic T cells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lease pore-forming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teins that destroy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ected ce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31"/>
          <p:cNvSpPr/>
          <p:nvPr/>
        </p:nvSpPr>
        <p:spPr>
          <a:xfrm>
            <a:off x="7040520" y="5897520"/>
            <a:ext cx="4129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cted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Memory B cells and Memory T cell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198000" y="2261880"/>
            <a:ext cx="877572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fter recovering from a disease, you remain immune to that particular microbe for many years, perhaps a lifetim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Some of the daughter cells of the original B cells, cytotoxic T cells, and helper T cells that responded to the original infection differentiate into </a:t>
            </a:r>
            <a:r>
              <a:rPr b="1" lang="en-US" sz="1600" spc="-1" strike="noStrike">
                <a:solidFill>
                  <a:srgbClr val="404040"/>
                </a:solidFill>
                <a:latin typeface="Trebuchet MS"/>
              </a:rPr>
              <a:t>memory B cells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 and </a:t>
            </a:r>
            <a:r>
              <a:rPr b="1" lang="en-US" sz="1600" spc="-1" strike="noStrike">
                <a:solidFill>
                  <a:srgbClr val="404040"/>
                </a:solidFill>
                <a:latin typeface="Trebuchet MS"/>
              </a:rPr>
              <a:t>memory T cells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 that survive for many year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f the body is reinvaded by the same type of microbe, the memory cells recognize the invader and mount an immune response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2" descr="36_12Figure-U"/>
          <p:cNvPicPr/>
          <p:nvPr/>
        </p:nvPicPr>
        <p:blipFill>
          <a:blip r:embed="rId1"/>
          <a:srcRect l="0" t="0" r="0" b="4057"/>
          <a:stretch/>
        </p:blipFill>
        <p:spPr>
          <a:xfrm>
            <a:off x="297000" y="1081080"/>
            <a:ext cx="8548560" cy="4503600"/>
          </a:xfrm>
          <a:prstGeom prst="rect">
            <a:avLst/>
          </a:prstGeom>
          <a:ln w="0">
            <a:noFill/>
          </a:ln>
        </p:spPr>
      </p:pic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0160" y="-360"/>
            <a:ext cx="8587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6-12 Acquired i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31"/>
          <p:cNvSpPr/>
          <p:nvPr/>
        </p:nvSpPr>
        <p:spPr>
          <a:xfrm>
            <a:off x="2328840" y="2949480"/>
            <a:ext cx="13492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rst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31"/>
          <p:cNvSpPr/>
          <p:nvPr/>
        </p:nvSpPr>
        <p:spPr>
          <a:xfrm>
            <a:off x="4309920" y="2378160"/>
            <a:ext cx="11462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terval: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onths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r ye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31"/>
          <p:cNvSpPr/>
          <p:nvPr/>
        </p:nvSpPr>
        <p:spPr>
          <a:xfrm>
            <a:off x="5872320" y="2225520"/>
            <a:ext cx="1438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ond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31"/>
          <p:cNvSpPr/>
          <p:nvPr/>
        </p:nvSpPr>
        <p:spPr>
          <a:xfrm>
            <a:off x="3370320" y="5222880"/>
            <a:ext cx="451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ime since exposure (week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31"/>
          <p:cNvSpPr/>
          <p:nvPr/>
        </p:nvSpPr>
        <p:spPr>
          <a:xfrm>
            <a:off x="1979640" y="4816440"/>
            <a:ext cx="384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31"/>
          <p:cNvSpPr/>
          <p:nvPr/>
        </p:nvSpPr>
        <p:spPr>
          <a:xfrm>
            <a:off x="2728800" y="4822920"/>
            <a:ext cx="384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31"/>
          <p:cNvSpPr/>
          <p:nvPr/>
        </p:nvSpPr>
        <p:spPr>
          <a:xfrm>
            <a:off x="3459240" y="4822920"/>
            <a:ext cx="384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31"/>
          <p:cNvSpPr/>
          <p:nvPr/>
        </p:nvSpPr>
        <p:spPr>
          <a:xfrm>
            <a:off x="4202280" y="4822920"/>
            <a:ext cx="384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31"/>
          <p:cNvSpPr/>
          <p:nvPr/>
        </p:nvSpPr>
        <p:spPr>
          <a:xfrm>
            <a:off x="6418440" y="4816440"/>
            <a:ext cx="384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31"/>
          <p:cNvSpPr/>
          <p:nvPr/>
        </p:nvSpPr>
        <p:spPr>
          <a:xfrm>
            <a:off x="7167600" y="4822920"/>
            <a:ext cx="384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31"/>
          <p:cNvSpPr/>
          <p:nvPr/>
        </p:nvSpPr>
        <p:spPr>
          <a:xfrm>
            <a:off x="7897680" y="4822920"/>
            <a:ext cx="384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31"/>
          <p:cNvSpPr/>
          <p:nvPr/>
        </p:nvSpPr>
        <p:spPr>
          <a:xfrm>
            <a:off x="8640720" y="4822920"/>
            <a:ext cx="384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16"/>
          <p:cNvSpPr/>
          <p:nvPr/>
        </p:nvSpPr>
        <p:spPr>
          <a:xfrm>
            <a:off x="6489720" y="2933640"/>
            <a:ext cx="0" cy="151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17"/>
          <p:cNvSpPr/>
          <p:nvPr/>
        </p:nvSpPr>
        <p:spPr>
          <a:xfrm>
            <a:off x="4915080" y="3422520"/>
            <a:ext cx="545760" cy="102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18"/>
          <p:cNvSpPr/>
          <p:nvPr/>
        </p:nvSpPr>
        <p:spPr>
          <a:xfrm flipH="1">
            <a:off x="2050920" y="3695760"/>
            <a:ext cx="819360" cy="78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31"/>
          <p:cNvSpPr/>
          <p:nvPr/>
        </p:nvSpPr>
        <p:spPr>
          <a:xfrm>
            <a:off x="449280" y="2270160"/>
            <a:ext cx="13492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mmune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sponse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amount of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ntibody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duce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166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ow Does Medical Care Assist the Immune Response?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battle against disease, for most of human history, was fought by the immune response alo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urrently, the immune response has a powerful assista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Medical treatmen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Antibiotics and vaccinations are two very important medical tool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biotic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144000" y="1279080"/>
            <a:ext cx="877572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biotics slow down microbial reproductio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Trebuchet MS"/>
              </a:rPr>
              <a:t>Antibiotics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 are chemicals that help to combat infection by slowing down the multiplication of bacteria, fungi, or protist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The occasional mutant microbe that is resistant to an antibiotic will pass on the genes for resistance to its offspring; resistant microbes thrive while susceptible microbes die off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Eventually, many antibiotics become ineffective in treating diseases 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ntibiotics are not effective against viruses because they target metabolic processes that viruses do not posses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Drugs are now available that target different stages of the viral cycle of infection, including attachment to a host cell, replication of viral parts, assembly of new viruses within the host cell, and the release of these viruses to infect more body cell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Antiviral drugs are available to treat HIV, herpes virus (cold and genital sores), and the flu viru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Vaccine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144000" y="1279080"/>
            <a:ext cx="877572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 </a:t>
            </a:r>
            <a:r>
              <a:rPr b="1" lang="en-US" sz="1600" spc="-1" strike="noStrike">
                <a:solidFill>
                  <a:srgbClr val="404040"/>
                </a:solidFill>
                <a:latin typeface="Trebuchet MS"/>
              </a:rPr>
              <a:t>vaccine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 stimulates an immune response by exposing a person to antigens produced by a pathogen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Vaccines often consist of weakened or killed microbes, or some of the pathogen’s antigens, usually synthesized using genetic engineering techniques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Exposure to these antigens results in the body producing an army of memory cells that confer immunity against living microbes of the same type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IV and AID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144000" y="1279440"/>
            <a:ext cx="877572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spcAft>
                <a:spcPts val="22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IDS is caused by 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human immunodeficiency viruses (HIV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that undermine the immune system by infecting and destroying helper T cells, which stimulate both the cell-mediated and humoral immune response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612"/>
              </a:spcBef>
              <a:spcAft>
                <a:spcPts val="176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AIDS does not kill people directly, but AIDS victims become increasingly susceptible to other diseases as their helper T-cell populations decline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612"/>
              </a:spcBef>
              <a:spcAft>
                <a:spcPts val="176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HIV enters a helper T cell and hijacks the cell’s metabolic machinery, forcing it to make more viruses, which then emerge, taking an outer coating of T-cell membrane with them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Helper T-cell levels continue to decline over time and without treatment, and eventually the immune response becomes too weak to overcome routine infection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At this time, the person is considered to have AIDS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e life expectancy for untreated AIDS victims is 1 to 2 years 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612"/>
              </a:spcBef>
              <a:spcAft>
                <a:spcPts val="176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612"/>
              </a:spcBef>
              <a:spcAft>
                <a:spcPts val="176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83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adaptive immune system consists of three major compone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rebuchet MS"/>
              </a:rPr>
              <a:t>Immune cell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rebuchet MS"/>
              </a:rPr>
              <a:t>Tissues and organs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rebuchet MS"/>
              </a:rPr>
              <a:t>Secreted protein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CA" sz="3600" spc="-1" strike="noStrike">
                <a:solidFill>
                  <a:srgbClr val="90c226"/>
                </a:solidFill>
                <a:latin typeface="Trebuchet MS"/>
              </a:rPr>
              <a:t>Key word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1800" spc="-1" strike="noStrike">
                <a:solidFill>
                  <a:srgbClr val="404040"/>
                </a:solidFill>
                <a:latin typeface="Trebuchet MS"/>
              </a:rPr>
              <a:t>The adaptive immune syste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83280" indent="-262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1600" spc="-1" strike="noStrike">
                <a:solidFill>
                  <a:srgbClr val="404040"/>
                </a:solidFill>
                <a:latin typeface="Trebuchet MS"/>
              </a:rPr>
              <a:t>processes that eliminate or prevent pathogenic growth</a:t>
            </a:r>
            <a:br>
              <a:rPr sz="1600"/>
            </a:br>
            <a:r>
              <a:rPr b="0" lang="en-CA" sz="16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Patho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Anti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Leukocyte and lymphocyt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B cells and T cel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Memory cel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Antigen presenting cel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Immuni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404040"/>
                </a:solidFill>
                <a:latin typeface="Trebuchet MS"/>
              </a:rPr>
              <a:t>macropha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Immune cell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90600" y="1587240"/>
            <a:ext cx="81532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ral types of white blood cells, including macrophages and lymphocyt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Unique to the adaptive immune response are specialized white blood cells called 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lymphocyt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B cells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and 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T cells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are two types of lymphocytes that arise from dividing stem cells in the bone marrow and thymu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Group 3"/>
          <p:cNvGrpSpPr/>
          <p:nvPr/>
        </p:nvGrpSpPr>
        <p:grpSpPr>
          <a:xfrm>
            <a:off x="5054760" y="125280"/>
            <a:ext cx="3944880" cy="6589800"/>
            <a:chOff x="5054760" y="125280"/>
            <a:chExt cx="3944880" cy="6589800"/>
          </a:xfrm>
        </p:grpSpPr>
        <p:pic>
          <p:nvPicPr>
            <p:cNvPr id="676" name="Picture 2" descr="36_05Figure-U"/>
            <p:cNvPicPr/>
            <p:nvPr/>
          </p:nvPicPr>
          <p:blipFill>
            <a:blip r:embed="rId1"/>
            <a:srcRect l="0" t="0" r="0" b="-66"/>
            <a:stretch/>
          </p:blipFill>
          <p:spPr>
            <a:xfrm>
              <a:off x="5054760" y="125280"/>
              <a:ext cx="3944880" cy="65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Text Box 31"/>
            <p:cNvSpPr/>
            <p:nvPr/>
          </p:nvSpPr>
          <p:spPr>
            <a:xfrm>
              <a:off x="5610240" y="1989000"/>
              <a:ext cx="55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hym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5"/>
            <p:cNvSpPr/>
            <p:nvPr/>
          </p:nvSpPr>
          <p:spPr>
            <a:xfrm>
              <a:off x="6180120" y="2100240"/>
              <a:ext cx="11239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6"/>
            <p:cNvSpPr/>
            <p:nvPr/>
          </p:nvSpPr>
          <p:spPr>
            <a:xfrm flipV="1">
              <a:off x="6228000" y="2779200"/>
              <a:ext cx="1095120" cy="12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7"/>
            <p:cNvSpPr/>
            <p:nvPr/>
          </p:nvSpPr>
          <p:spPr>
            <a:xfrm>
              <a:off x="7250400" y="1258560"/>
              <a:ext cx="64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31"/>
            <p:cNvSpPr/>
            <p:nvPr/>
          </p:nvSpPr>
          <p:spPr>
            <a:xfrm>
              <a:off x="7928280" y="1147680"/>
              <a:ext cx="55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nsi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31"/>
            <p:cNvSpPr/>
            <p:nvPr/>
          </p:nvSpPr>
          <p:spPr>
            <a:xfrm>
              <a:off x="8410680" y="1995480"/>
              <a:ext cx="55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on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r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0"/>
            <p:cNvSpPr/>
            <p:nvPr/>
          </p:nvSpPr>
          <p:spPr>
            <a:xfrm>
              <a:off x="8079120" y="21016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1"/>
            <p:cNvSpPr/>
            <p:nvPr/>
          </p:nvSpPr>
          <p:spPr>
            <a:xfrm flipV="1">
              <a:off x="7742520" y="3011400"/>
              <a:ext cx="62532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31"/>
            <p:cNvSpPr/>
            <p:nvPr/>
          </p:nvSpPr>
          <p:spPr>
            <a:xfrm>
              <a:off x="8417160" y="2897280"/>
              <a:ext cx="55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ple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31"/>
            <p:cNvSpPr/>
            <p:nvPr/>
          </p:nvSpPr>
          <p:spPr>
            <a:xfrm>
              <a:off x="5616720" y="2792520"/>
              <a:ext cx="55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horaci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u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4"/>
            <p:cNvSpPr/>
            <p:nvPr/>
          </p:nvSpPr>
          <p:spPr>
            <a:xfrm flipV="1">
              <a:off x="6228000" y="2779200"/>
              <a:ext cx="1092240" cy="12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15"/>
            <p:cNvSpPr/>
            <p:nvPr/>
          </p:nvSpPr>
          <p:spPr>
            <a:xfrm flipV="1">
              <a:off x="6122880" y="3373560"/>
              <a:ext cx="79056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6"/>
            <p:cNvSpPr/>
            <p:nvPr/>
          </p:nvSpPr>
          <p:spPr>
            <a:xfrm>
              <a:off x="6120000" y="3522600"/>
              <a:ext cx="85068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7"/>
            <p:cNvSpPr/>
            <p:nvPr/>
          </p:nvSpPr>
          <p:spPr>
            <a:xfrm>
              <a:off x="6120000" y="3522600"/>
              <a:ext cx="83484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31"/>
            <p:cNvSpPr/>
            <p:nvPr/>
          </p:nvSpPr>
          <p:spPr>
            <a:xfrm>
              <a:off x="5613480" y="3357720"/>
              <a:ext cx="55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ymph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esse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31"/>
            <p:cNvSpPr/>
            <p:nvPr/>
          </p:nvSpPr>
          <p:spPr>
            <a:xfrm>
              <a:off x="5613480" y="3782880"/>
              <a:ext cx="55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ymph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20"/>
            <p:cNvSpPr/>
            <p:nvPr/>
          </p:nvSpPr>
          <p:spPr>
            <a:xfrm flipV="1">
              <a:off x="6122880" y="3865680"/>
              <a:ext cx="93348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21"/>
            <p:cNvSpPr/>
            <p:nvPr/>
          </p:nvSpPr>
          <p:spPr>
            <a:xfrm>
              <a:off x="6120000" y="3935520"/>
              <a:ext cx="97776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31"/>
            <p:cNvSpPr/>
            <p:nvPr/>
          </p:nvSpPr>
          <p:spPr>
            <a:xfrm>
              <a:off x="5543640" y="4989600"/>
              <a:ext cx="55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lve prevent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ackfl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31"/>
            <p:cNvSpPr/>
            <p:nvPr/>
          </p:nvSpPr>
          <p:spPr>
            <a:xfrm>
              <a:off x="5400720" y="5376960"/>
              <a:ext cx="55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ymph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31"/>
            <p:cNvSpPr/>
            <p:nvPr/>
          </p:nvSpPr>
          <p:spPr>
            <a:xfrm>
              <a:off x="5153040" y="5783400"/>
              <a:ext cx="55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hamber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cked with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hite bloo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e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5"/>
            <p:cNvSpPr/>
            <p:nvPr/>
          </p:nvSpPr>
          <p:spPr>
            <a:xfrm>
              <a:off x="6256440" y="5199120"/>
              <a:ext cx="65088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6"/>
            <p:cNvSpPr/>
            <p:nvPr/>
          </p:nvSpPr>
          <p:spPr>
            <a:xfrm flipV="1">
              <a:off x="5840280" y="5532120"/>
              <a:ext cx="54288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27"/>
            <p:cNvSpPr/>
            <p:nvPr/>
          </p:nvSpPr>
          <p:spPr>
            <a:xfrm flipV="1">
              <a:off x="6053040" y="5710320"/>
              <a:ext cx="61596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28"/>
            <p:cNvSpPr/>
            <p:nvPr/>
          </p:nvSpPr>
          <p:spPr>
            <a:xfrm flipV="1">
              <a:off x="6046920" y="5897520"/>
              <a:ext cx="523800" cy="12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issues and orga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286920" y="1214280"/>
            <a:ext cx="53262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ymph nodes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: which contain masses of macrophages and specialized white blood cells called lymphocyte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ymus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: is located beneath the breastbone, slightly above the heart, and is essential for development of T cell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plee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: fist-sized organ located on the left side of the abdominal cavity - filters blood, exposing it to white blood cells that destroy microbes and aged red blood cell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onsils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: are located in a ring around the pharynx Macrophages and other white blood cells in the tonsils directly destroy many invading microbes and often trigger an adaptive immune respons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ecreted prote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609120" y="1623960"/>
            <a:ext cx="808380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Cytokines: secreted by leukocyte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1371600">
              <a:spcBef>
                <a:spcPts val="10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950"/>
              </a:spcBef>
              <a:spcAft>
                <a:spcPts val="238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Antibodies</a:t>
            </a: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: proteins produced by B cells and their offspring, help the immune system to recognize invading microbes and destroy them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534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ll adaptive immune responses include the same three step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44000" y="1929960"/>
            <a:ext cx="8775720" cy="47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55600" indent="-355320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1.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Lymphocytes recognize an invading microbe and distinguish the invader from self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155600" indent="-355320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ey launch an attack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155600" indent="-355320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3.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ey retain a memory of the invader that allows them to ward off future infections by the same type of microbe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gens: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609480" y="1186920"/>
            <a:ext cx="827568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adaptive immune system recognizes invaders’ complex molecules - ANTIGE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Trebuchet MS"/>
              </a:rPr>
              <a:t>Antigens: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large, complex molecule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they are “</a:t>
            </a:r>
            <a:r>
              <a:rPr b="0" i="1" lang="en-US" sz="1400" spc="-1" strike="noStrike">
                <a:solidFill>
                  <a:srgbClr val="404040"/>
                </a:solidFill>
                <a:latin typeface="Trebuchet MS"/>
              </a:rPr>
              <a:t>anti</a:t>
            </a: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body </a:t>
            </a:r>
            <a:r>
              <a:rPr b="0" i="1" lang="en-US" sz="1400" spc="-1" strike="noStrike">
                <a:solidFill>
                  <a:srgbClr val="404040"/>
                </a:solidFill>
                <a:latin typeface="Trebuchet MS"/>
              </a:rPr>
              <a:t>gen</a:t>
            </a: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erating” molecules that can provoke an immune response, including the production of antibodies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acteria and humans differ from one another because each contains specific, complex molecules that the other does not have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ntigens are often located on the surfaces of invading microbe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Many viral antigens become incorporated into the plasma membranes of infected body cell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Viral or bacterial antigens are also “displayed” on the plasma membranes of dendritic cells and macrophages that engulf them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Other antigens, such as toxins released by bacteria, may be toxins in the blood plasma, lymph, or other extracellular fluid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8:39:41Z</dcterms:created>
  <dc:creator>R U</dc:creator>
  <dc:description/>
  <dc:language>en-US</dc:language>
  <cp:lastModifiedBy>Sean</cp:lastModifiedBy>
  <cp:lastPrinted>2015-02-25T19:27:02Z</cp:lastPrinted>
  <dcterms:modified xsi:type="dcterms:W3CDTF">2017-03-06T19:28:52Z</dcterms:modified>
  <cp:revision>129</cp:revision>
  <dc:subject/>
  <dc:title>Chapter 36</dc:title>
</cp:coreProperties>
</file>